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CB4-2144-4FF4-8484-AD1E27B9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E5F-30E5-4141-86A2-FCCAC01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9F3-8AE2-47D3-9627-627B4B9F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D60-49B2-40B6-9194-8B0AAC42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525-154B-4C7C-A270-16BDC063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815-9868-4E49-B9BA-D08C327C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2E6-1868-4508-9722-6A4AC5B8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116-7D6C-42D5-AADD-0FE15335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8B1-29BA-44BB-AE7B-FEA17A1A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192-E97B-4549-99D3-EAE7C6AB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510-7070-460F-BDFF-1B45ECB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323-425B-439B-A1AD-4CEC8D94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0F2B-EC50-4B8B-90DD-F8467AB69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smilan.org/teachers/kwheatley/pictures/WHII/slaves/TheJimCrowLaws-Front.jpg&amp;imgrefurl=http://www.asmilan.org/teachers/kwheatley/worldhistoryii.html&amp;h=600&amp;w=452&amp;sz=106&amp;tbnid=Bj1ixkyANUIeOM:&amp;tbnh=133&amp;tbnw=100&amp;hl=en&amp;start=19&amp;prev=/images%3Fq%3Djim%2Bcrow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stetsonkennedy.com/jim_crow_guide/images/water_fountain.jpg&amp;imgrefurl=http://www.stetsonkennedy.com/jim_crow_guide/intro.htm&amp;h=206&amp;w=263&amp;sz=15&amp;tbnid=t1pRKRA3aHadMM:&amp;tbnh=83&amp;tbnw=107&amp;hl=en&amp;start=6&amp;prev=/images%3Fq%3Djim%2Bcrow%26svnum%3D10%26hl%3Den%26lr%3D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americaslibrary.gov/assets/jb/progress/jb_progress_plessy_1_e.jpg&amp;imgrefurl=http://www.americaslibrary.gov/jb/progress/jb_progress_plessy_1_e.html&amp;h=351&amp;w=534&amp;sz=54&amp;tbnid=ibLBROJWxBxtvM:&amp;tbnh=84&amp;tbnw=129&amp;hl=en&amp;start=2&amp;prev=/images%3Fq%3Dplessy%2Bv.%2Bferguson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culturequest.us/annstillman/plessy%2520pic2.jpg&amp;imgrefurl=http://www.culturequest.us/annstillman/Plessy%2520VS%2520F.html&amp;h=256&amp;w=386&amp;sz=12&amp;tbnid=nIjFRhwbgrfEYM:&amp;tbnh=78&amp;tbnw=119&amp;hl=en&amp;start=4&amp;prev=/images%3Fq%3Dplessy%2Bv.%2Bferguson%26svnum%3D10%26hl%3Den%26lr%3D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teachpol.tcnj.edu/amer_pol_hist/fi/000000db.jpg&amp;imgrefurl=http://teachpol.tcnj.edu/amer_pol_hist/fi/000000db.htm&amp;h=1250&amp;w=1011&amp;sz=573&amp;tbnid=27LPjXzvukfRlM:&amp;tbnh=150&amp;tbnw=121&amp;hl=en&amp;start=2&amp;prev=/images%3Fq%3Dbooker%2Bt%2Bwashington%26svnum%3D10%26hl%3Den%26lr%3D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cr.nps.gov/nr/travel/civilrights/buildings/idawell2.jpg&amp;imgrefurl=http://www.cr.nps.gov/nr/travel/civilrights/il2.htm&amp;h=316&amp;w=250&amp;sz=18&amp;tbnid=W8I09Yk68DQVOM:&amp;tbnh=113&amp;tbnw=89&amp;hl=en&amp;start=7&amp;prev=/images%3Fq%3DIda%2BB.%2BWells%26svnum%3D10%26hl%3Den%26lr%3D" TargetMode="External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57200"/>
            <a:ext cx="826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pter 13 - Reconstruction &amp; the New Sou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447920"/>
            <a:ext cx="4267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nd of the Old Sout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664280" y="20937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vil War ravaged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ed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2971800"/>
            <a:ext cx="2895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nstruc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1743480" y="3541680"/>
            <a:ext cx="66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building the former Confederate states &amp; reuniting the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4120" y="3922560"/>
            <a:ext cx="73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mnesty – full pardon to most southerners &amp; a state can rejoin if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p vote in f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4800600"/>
            <a:ext cx="5334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ncoln dead, Johnson i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2062800" y="5257800"/>
            <a:ext cx="568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son lacked political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easier on South – pardons for almost every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ed southerners to take charge of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use rights to freed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39400" y="4176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5520" y="8380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Black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5943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gressional Reconstruc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510560" y="232236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ates Vs. Rad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5960" y="2703600"/>
            <a:ext cx="685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adical Republicans = in favor of African American suff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addeus St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rederick Doug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reedmen’s Bur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886200"/>
            <a:ext cx="71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Civil Rights Act of 18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ll people are citizens (Reinforced by the passag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Johnson keeps vetoing &amp; congress keeps overridi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5600" y="5105520"/>
            <a:ext cx="52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adical Republicans come to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ook to give Af. Am’s the right to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ress Vs. the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019920"/>
            <a:ext cx="7534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drew Johnson Impeached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1981080"/>
            <a:ext cx="6096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urther Political Difficulti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617400" y="2743200"/>
            <a:ext cx="44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cal Republicans begin losing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n trouble, nominate a war hero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486400" y="2895480"/>
            <a:ext cx="2590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lysses S. Gran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657600"/>
            <a:ext cx="27957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ection of 1868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763920" y="4343400"/>
            <a:ext cx="446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vs. Horatio Sey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. American votes give Grant the victo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880" y="228600"/>
            <a:ext cx="718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econstruction Acts 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vided the former Confederacy into 5 military distr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nion army troops stationed in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es must ratify 1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antee everyone the right to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9360" y="51814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15th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04920" y="38088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frican American Activis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27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begin 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lvement in pol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50440" y="3048120"/>
            <a:ext cx="19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Carpetba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calaw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Ku Klux K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2286000"/>
            <a:ext cx="716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uthern Reactio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4038480"/>
            <a:ext cx="6734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hanges in Reconstruc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588320" y="4761000"/>
            <a:ext cx="50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ic of 18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blicans losing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crats win the Sen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redeemers “take back” thei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457200"/>
            <a:ext cx="40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ection of 187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988560" y="1295280"/>
            <a:ext cx="650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uel J. Tilden (Dem)  Vs.  Rutherford B. Hayes (R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lden wins pop. Vote, but electoral votes are challeng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yes wins by 1 electoral vote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es com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Compromise of 18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289548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What will happen without military protection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3520" y="3657600"/>
            <a:ext cx="3809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New Sout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1451520" y="4648320"/>
            <a:ext cx="545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ers unable to pay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c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p-lie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 Growth (factories, ironworks, RR, text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533520"/>
            <a:ext cx="532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Rise of Jim Crow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1526760" y="1371600"/>
            <a:ext cx="63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crats in charge of state legisl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laws that take away rights of Af. Am’s (Jim Crow La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98360" y="1981080"/>
            <a:ext cx="18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Poll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Literacy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e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19320" y="3048120"/>
            <a:ext cx="3390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lessy v. Fergus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41760" y="3657600"/>
            <a:ext cx="39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but equal” is ok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violate the 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4495680"/>
            <a:ext cx="5591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sponse to Jim Crow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2043720" y="5218200"/>
            <a:ext cx="54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Madame C. J. Walk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llion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Booker T. Washing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operation &amp; edu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Ida B. Wel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ti lynching socie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447920"/>
            <a:ext cx="2895480" cy="2246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4600" y="2133720"/>
            <a:ext cx="2971800" cy="193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3886200"/>
            <a:ext cx="3124080" cy="2048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0880" y="3505320"/>
            <a:ext cx="2335320" cy="28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4114800"/>
            <a:ext cx="192096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276720" y="304920"/>
            <a:ext cx="32004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6:56:15Z</dcterms:created>
  <dc:creator>Nate and Babies</dc:creator>
  <dc:description/>
  <dc:language>en-US</dc:language>
  <cp:lastModifiedBy>nalbert</cp:lastModifiedBy>
  <dcterms:modified xsi:type="dcterms:W3CDTF">2006-03-14T14:01:49Z</dcterms:modified>
  <cp:revision>10</cp:revision>
  <dc:subject/>
  <dc:title>Slide 1</dc:title>
</cp:coreProperties>
</file>